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7B4-851E-4269-9D17-2F1E9993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3F2-2E10-48A0-9CC1-5CCF913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128C0-8D3B-4F34-9D79-1A608379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4A64A-ABE5-4079-9507-286FECE7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4804B-BD7C-4ED2-B7FE-379ADB18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538B5-070F-485A-B156-64925004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B79D2-8195-4241-82C0-2D6137A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6FD6D-A609-4BB4-81BE-3EF03BA5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5071A-544C-498F-AA94-1FA2210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FF9C-8A30-4121-AF8C-645DECCE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7E002-70CB-4964-AB00-8F755AD2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4D50DD-AFA3-4CB0-9CF0-EDE5FF6A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698-D93F-4EE4-9786-C403CA1F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FDC296-E3CC-42EC-A368-FA5DBF94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C11427-9671-4FC3-A63C-D8A2CD39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D78E53-6709-4FCF-B8FD-D5BF2DFB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B692B-0A80-456B-A0E5-70DE6440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D2746-5BF1-49B3-9899-E4232D38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F900C9-DF4D-4068-BE19-92470C09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9C01A2-A3A8-4DA7-9314-FC967336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C75A07-016B-4F02-BA5B-3091B059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96383C-39A7-4D32-9072-4A9F9231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EBCD43-218B-42C4-B0CD-4FF9E5B6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952-B48C-4F2E-8A3A-2D4E845E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ACDB5E-E39C-4EC1-8BFA-248495E4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2B8FF-03BE-4BE5-86B8-DBE458CB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E3A1A-9C9B-4385-B532-2BD3BA6D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83217-085C-4C24-9A3F-91BED2F9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F24DE-2D6F-4A84-8E5D-076681D4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8C559-660B-49D4-AAFA-46614B1E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0D157-D29D-4455-B6DC-B93C8424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E3C8A-0FFF-4D6D-8495-02182DC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22788-E337-4847-9427-C7FB12B5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49548-8585-4242-ADE1-CEBCC71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31B5-97BD-4FB2-B9CF-477D8642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13C0F-8255-4BDA-B7CA-2CC8E33B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03B17-B59D-45FE-A9B5-9D4050A2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06415-1FCE-4B34-8291-26B723D1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16349-A429-4B98-BF40-29B14E33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B0836-31F8-4778-BB69-5DBC27BB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2CCEF-CC7F-4695-9401-F59156F3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16A3A-444C-4474-B28B-4FF5FA2D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DFB3E-4614-45A1-BB37-5A99350E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023A9-43A1-4DA2-991B-B860C12D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C0344-E144-4E00-8FE2-9D6B094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A3F8-A9EB-42EE-BDD6-8505D3D2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D976A-4F48-4013-89C5-8887606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B709A-1590-4939-882D-68DAE3F7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BC370-3E5B-43AB-9461-8EBBFFB4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BC1E7-D578-44AE-8998-7BDBA985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3EC3E-9D00-492F-9237-C36D3297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5925-639D-48DA-8BDF-E5A0C506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B187-5337-4E16-93E2-DA8CA456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70E1-CF9A-44E6-AF70-E608704A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05B4-71F1-45D1-8C23-C2155951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9624-0021-4D2E-B750-E256F2F4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039-6078-4CFA-A5ED-D67937E6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6646-12E5-48AB-8A7A-7216C498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5B37-71A0-47FC-B91B-F0D1C7F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6072-0390-4A80-AD53-D389856C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C5F2-5D91-4D46-B72E-3C1E99E3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4E78-370B-47F4-B2A8-FB1483A4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461E4-CBA8-47B7-851C-139EA3AA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7DB7-003A-4C55-AEA2-ADA6809C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1BBA-BC0A-4196-A065-610A4B84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03FC-0D24-4958-AA99-234A9D35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142C-591D-4D5D-8EA9-00EF97E0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878-D6FD-45CB-B0B0-224A1D36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D9BF-2256-4AA8-A9FE-C0C24039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E201-B0F6-4BBB-BE3F-FDE171AA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10EBB-2CC5-4E82-B31F-7CAD071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F57B-223C-4052-8183-DFECFEBA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FFAE-3FE4-4836-A9C3-B8E8AAE5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BFD5-BA49-4C78-BC0E-9B7A4633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67FD-49EA-444B-9F48-CB925A4E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57CBE-7DC7-4530-B751-BBC8A0BE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5B9EB-8487-4D3A-9201-4EF586E3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C02D-0B7A-4175-A205-A1EAB962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64C-ADF0-4BE7-91AF-C3552622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5567C-834B-496C-B5F5-02B0F0EC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F6A5-F707-428D-8355-AB6CB0BF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3EA3C-2CA3-4296-9E59-44739BCE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9D92-4CD4-471B-86FE-6AF5C97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A648-BC0A-4040-88DF-80D99C7A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F6AB-4C13-46A9-9B61-91FB9486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4CA0D-0BC6-426D-89E2-E3D65EF7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7939-DD30-42C7-80EF-760A64F2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5EF9-F597-4A3E-9C34-9C34608D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BA0C3-E08A-4347-907E-7EEF8C15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3B1-2FEE-47F5-9892-5FAC61DB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4AEC8-F6EA-451E-B694-F7E37D8B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54EA1-AC10-47DE-A27D-213B8C41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B95DF-8A48-45B6-975C-B62F5621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7AAD4-D5EC-4B7D-9571-362E896A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8C58A-92DC-4466-A101-648797EC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3AE6B-C442-407D-BC82-67BD26B8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61BE4-376C-4F81-887C-74169C81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4E617-BD73-4E12-B7EA-C4D8D82C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5AE45-05B7-478A-A1F8-373BF4AE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EEF38-2D61-4079-A027-0E1D7FF5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56A-8C5C-4106-AEA8-BD8759A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16D5D-6795-4592-B60F-2DB2CB88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6AE7D-CB27-4F03-8ABB-9F7D7EB2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ACF8-A6FD-450B-BF0A-89DA0062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31F0-CF97-4C0C-BFB8-D1E708D0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B8986-2BCD-4CCD-8477-01320C67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784F8-5203-42F2-B6A2-8D08282A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921A-EDCE-4033-8B9C-395957EF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9B2E-B6AA-4E3E-9B52-ADB45F93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5C921-7EF2-455B-82EB-B73A0438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8D73D-134E-4F87-87BA-87E3A6D7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C36-DEB5-43B1-81B2-4A2488E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FB5B2-6A4E-4D13-907E-7A565F5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9C80-3114-4902-A802-9FFDC479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C0D69-D5D5-4104-9A8C-4D7C5B5D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4A2EF-2E2C-46B3-A2E2-BC1C2AF3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6F5A-E1EA-4DF4-8DAA-EFB5F29C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4729-3278-4610-8FBB-9CBB8892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777F-AACD-4999-85A7-AB1668FE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6539-7732-458A-850D-B08D6C99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A0DD-1907-4A69-895B-B413AA01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FB2AE-F668-4D9E-ADBF-96769FC7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7F5-D7B2-4703-9425-7FB4430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68489-DA06-41CC-995C-67B3E5BE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4542C-5167-4B4D-A0B0-1AECF54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5308B-3BE2-4F2B-BDE6-60DA3306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3236-F614-4E1E-A3E3-0C9173B3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14C93-270F-4B5D-9579-B16CB5E7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7EF7-D6FF-4F73-98FE-F6FE321E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0DF8D-71FD-4F7A-A258-09C582A7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747FC-DEAA-4FF2-A599-CBB17168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528E1-B620-432C-9806-595CC1CE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BD193-E5A9-4968-899F-807A3072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ACC-B7DC-4E07-BF35-AFD69F60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C82C6-F5D8-4020-8061-D5F91006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F5A4A-49F2-4615-83C7-D42543DC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556A7-3CA0-4484-8FAA-31CB14CF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D5BA-619B-4DC7-85F2-1B26DE36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164E4-39FD-495E-85D2-27B2382B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B88AB-4B89-4F1E-94F9-A223F92A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6EDF9-00DF-4081-AB03-1AA64771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A66EB-9BE9-4266-AD61-5928EE61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92972-E699-4550-9293-8B532863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65432-CD25-4747-A97B-E0ED4E3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8635-B2A6-4ED1-A22C-48195D3E988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AAF0-BBC6-4BFA-BF4C-D5A311D1C2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F9AD-C37D-4678-83F6-DA5A058F63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79AB-0974-4404-B6F6-25D08904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ADFD-9B5F-4563-9210-5C5CDC0DD3C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664D-1A1A-4CEF-9008-FBA9DA6BFF5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959F-06CB-4B50-B383-8BBA7FCD46B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98AC-E36D-43F0-BB9B-45A296F25A9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1E44-400D-436E-AC79-8EE3CF4558E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86F0-DECE-452B-A387-EB6C0FC7E8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C399-9AF2-4C4C-A6DC-3316B6030E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FB6B-A857-42A3-973B-8DE533A2F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3DCB-6293-4AC5-AB93-D40D91133A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7CB4-B973-4160-A93A-32645DFF5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C74C-8EEB-4C39-B234-4B6426A557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EBE-52FD-4463-8839-9BF8F694A6C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9AEF-A6AB-4150-83C2-093E7A5FB88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1411-0051-4D4B-B2F2-C44CC6FE4A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3C5F-D92A-46AB-8166-78E57834D70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67BE-2300-4AD7-8E4B-37A9BC23D2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88DF-66DA-4CCD-A8EF-B252BD3AC4D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C43-B8E7-48A5-A3D8-E39716723F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26B9-114A-495E-971F-E9C5F4F8C7F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844E-81A3-457E-BCFD-BA0F7FBC5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676-F0C5-45D6-B673-05AB142419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B1EAD-DEB5-47C4-81BF-99E1A71E0D36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74449-CC88-492A-9168-37B8E340CA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1C7B5CD-243E-49B0-A2B7-5CC51038268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61315-4FAB-474E-AC35-3F0BA3343304}" type="slidenum">
              <a:t>3</a:t>
            </a:fld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B96D0-8A77-48B1-90F9-00BC8D92A9A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6812F56-4809-42DB-B4F3-471B08BE431C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1CD9C-7462-4904-B781-8158D46966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8B642BC-20E8-41A2-8F0B-CE1E62538DFD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2EB60-1BD3-4CF8-8607-635372F760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AA5103A-5048-4369-AE32-A2E72D1F1BE5}" type="datetime1">
              <a:rPr lang="en-US"/>
              <a:t>07/29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